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510B-5C0A-427A-8944-3B60812A3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BBE3-E981-46D7-BFF6-1CEC72EF8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A2BF-D731-4F48-A074-D33316D56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384A-67BF-469D-AA9E-B9B3323FE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68DFD-DD61-49BD-9DEA-78896DE0B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46C2C-101F-44B2-99CA-99400798E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98F9A-A2B8-46DC-A72F-5F8CB7A08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49142-245F-4964-AEC0-34F64199A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C342D-77B4-492F-A02E-6CBC0A401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C7540-EF02-4363-A4D4-4C27296A2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90077-5E02-4DA6-9245-532D8C535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7BB0-E225-4618-8B5B-202189B03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06C52-1F3A-4821-AF75-D8FD8107C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859D6-23F5-4EF0-8F32-F723D7BC2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39DE4-B397-4327-801C-B7AB13544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B2DD9-C774-4D91-9AB2-0F966BD5A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9BE1D-7350-47F3-BCA5-12828A82B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FDBB-4A9E-4056-8EDC-3CD1A5F16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458F-BB3C-46A7-BE07-C2C50DC7B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BBD5-038F-4BFD-AF2B-C6D30C6F9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3002-F516-4C2E-B91A-BB1B32D9C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8564-E5A2-4AD5-BE37-9D881F945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27F9-E69D-44C2-BC90-ACFE7CA3D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2D26-1374-4C8B-9B9A-BEB7FC653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A3810-9DB4-4A32-AAC4-2F9A4893A4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12654-8821-4F52-99F0-CA38343973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360" y="1988640"/>
            <a:ext cx="71280" cy="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4840" bIns="248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ÎNTREBĂRILE COMPLEMENTULU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Pe cine?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Pe ce?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Despre cine? Despre ce? Pentru cin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Cui? Unde? Când? De când?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Cum?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2484360" y="1700280"/>
            <a:ext cx="429588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COMPLEMENTUL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4d4d4d"/>
                </a:solidFill>
                <a:latin typeface="Arial"/>
              </a:rPr>
              <a:t>DEFINIŢIA COMPLEMENTULUI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COMPLEMENTUL ESTE PARTEA SECUNDARĂ DE PROPOZIŢIE CE DETERMINĂ UN VERB SAU UN ADJECTI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b7e7ff"/>
                </a:solidFill>
                <a:latin typeface="Arial"/>
              </a:rPr>
              <a:t>COMPLEMENTUL POATE FI EXPRIMAT PRIN: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SUBSTANTI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PRONU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NUMER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ALTE PĂRŢI DE VORBI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-Dă-mi </a:t>
            </a:r>
            <a:r>
              <a:rPr b="0" lang="ro-RO" sz="2800" spc="-1" strike="noStrike">
                <a:solidFill>
                  <a:srgbClr val="00cc99"/>
                </a:solidFill>
                <a:latin typeface="Arial"/>
              </a:rPr>
              <a:t>cartea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Ionel vine de la </a:t>
            </a:r>
            <a:r>
              <a:rPr b="0" lang="ro-RO" sz="2800" spc="-1" strike="noStrike">
                <a:solidFill>
                  <a:srgbClr val="00cc99"/>
                </a:solidFill>
                <a:latin typeface="Arial"/>
              </a:rPr>
              <a:t>ea</a:t>
            </a: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Grupul se împărţi în </a:t>
            </a:r>
            <a:r>
              <a:rPr b="0" lang="ro-RO" sz="2800" spc="-1" strike="noStrike">
                <a:solidFill>
                  <a:srgbClr val="00cc99"/>
                </a:solidFill>
                <a:latin typeface="Arial"/>
              </a:rPr>
              <a:t>dou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Tu ştii </a:t>
            </a:r>
            <a:r>
              <a:rPr b="0" lang="ro-RO" sz="2800" spc="-1" strike="noStrike">
                <a:solidFill>
                  <a:srgbClr val="00cc99"/>
                </a:solidFill>
                <a:latin typeface="Arial"/>
              </a:rPr>
              <a:t>a scrie</a:t>
            </a: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cc99"/>
                </a:solidFill>
                <a:latin typeface="Arial"/>
              </a:rPr>
              <a:t>Mâine</a:t>
            </a: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 să vii pe lac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cc99"/>
                </a:solidFill>
                <a:latin typeface="Arial"/>
              </a:rPr>
              <a:t>Acolo</a:t>
            </a: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 se află comoar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b7e7ff"/>
                </a:solidFill>
                <a:latin typeface="Arial"/>
              </a:rPr>
              <a:t>COMPLEMENTUL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Formulaţi propoziţii în care să aveţi complemente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folosindu-vă de imaginea alăturat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Identificaţi complementele şi părţile de vorbire prin care sunt exprima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832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716360" y="1844640"/>
            <a:ext cx="417204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5T07:37:49Z</dcterms:created>
  <dc:creator>PC001</dc:creator>
  <dc:description/>
  <dc:language>en-US</dc:language>
  <cp:lastModifiedBy>ANCA</cp:lastModifiedBy>
  <dcterms:modified xsi:type="dcterms:W3CDTF">2009-05-10T12:35:30Z</dcterms:modified>
  <cp:revision>6</cp:revision>
  <dc:subject/>
  <dc:title>COMPLEMENTUL</dc:title>
</cp:coreProperties>
</file>